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0D3-A224-4BF8-B1CA-5FC8AB90610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WSN:Wireless Sensor Network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無線感測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gBee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的命名源自於蜜蜂在發現花粉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展現如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pZag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形狀的舞蹈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際是傳遞訊息給同伴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FA4-42CD-4D3A-8847-5D3C7DA6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4DA-0932-43AA-B2E0-EBCE62A9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027-D6A4-4D87-A2A4-D3678EF8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2F-0BED-4E94-AEA5-DCF0AEFB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9A91-506B-4CCF-B5A3-E2961C3D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455-B96D-4F8E-B8DC-DB4662C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258-245C-465F-9EE2-B5BAA77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3C7-1799-43D3-BCAE-575F89DB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77DE-3858-4E0C-8C5F-99D832A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700-E712-449A-BC7D-F99A72FB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9BD5-2BAB-4EBA-AA42-CFA9C11C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DB4-E05E-4AA5-8A84-4513A22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630-5EC8-4BD8-8287-D42012D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43B-529E-41B3-84A6-01D0B7F3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E566-A29E-4EE9-9427-DD21429C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7C59-281E-41D1-99C9-49276A9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639-BA54-4262-AA58-E3689FD8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403-CD73-4EDC-ADB0-7C8C4F6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352-4E3A-4771-A55B-AB974C1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E55-BD32-47D4-85D7-42C4F27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8C9-7C45-4DE5-9B78-7E9DCDD6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A65-9FDB-4784-AC18-F5653CB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38B-2FA4-499F-836F-F05C46C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253-CA0A-445C-9F8A-3C12BB8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C94E-8AE0-47A4-BCE3-58CA941B05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3DEB-133F-4567-BF0B-32AAFBC761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5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326880"/>
            <a:ext cx="7467480" cy="5915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簡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指導老師：鄒景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學　　生：何東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聯網，即透過裝置在各類物體上的射頻識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RFI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感測器、二維碼等，經過介面與無線網路相連，從而給物體賦予「智能」，實現人與物體的溝通和對話，也可以實現物體與物體互相間的溝通和對話，將物體聯接起來的網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範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聯網一般為無線網，由於每個人周圍的設備可以達到一千至五千個，所以物聯網可能要包含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億至一千萬億個物體，在物聯網上，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每個人都可以應用電子標籤將真實的物體上網聯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從一瓶牛奶到一架飛機，在物聯網上都可以查找出它們的具體位置，即使在地球的另一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透過物聯網用監控主機對機器、設備、人員進行集中管理、控制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也可以對家庭設備、汽車進行遙控，以及尋找位置防止物品被盜等各種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f_244781_1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26708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43400" y="17524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發展的三個維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_244781_2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715000" cy="465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160020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架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_244781_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3716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機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研究機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orrseste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預估，物聯網可望成為下一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兆美元的通訊業務；中國移動無錫物聯網研究院也預估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年物聯網將帶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億人民幣的商機，未來物件皆可與電腦主動進行資料傳輸，提供人類更多自動化的整合服務及便利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威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4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駭客入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廣告騷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隱私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09:42Z</dcterms:created>
  <dc:creator>ho</dc:creator>
  <dc:description/>
  <dc:language>en-US</dc:language>
  <cp:lastModifiedBy>ho</cp:lastModifiedBy>
  <dcterms:modified xsi:type="dcterms:W3CDTF">2010-10-16T07:40:05Z</dcterms:modified>
  <cp:revision>23</cp:revision>
  <dc:subject/>
  <dc:title>PowerPoint 簡報</dc:title>
</cp:coreProperties>
</file>